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AC0-1ABA-4F6C-A519-30128E09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58C-5BE5-4FAE-9ADB-52D78D75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0A1-1E45-48D8-AF5A-7A718716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44D-B652-4089-878D-1EF0169A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E1C-B6E9-4DDF-A272-0ABAF18A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F26-81FC-4EA3-9977-23B9E2B6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A85-56A5-4585-8860-AB66900F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9C6-BAC0-476E-93CC-5B8FE188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7C3F-CE43-4328-9D6A-F4C6B848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6FE-24EE-4AC6-932F-B2B18DA4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1F7-4E82-4B25-8E5D-52ECB624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906-68F9-4872-9F7A-DAE5A652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09C5-8880-4C8D-AD19-07D5FE594C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сберегательного и депозитного поведения и вопросы восстановления доверия к банкам Украин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тенденции сберегательного повед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бор способа хранения денежных средств определяющее воздействие оказывает предыдущий сберегательный опы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формы хранения денег зависит от величины конкретной сум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ая фиксированная сумма сбережений является для многих украинцев неким стабилизатором личного социально-психологического стат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не склоны тратить «стабилизационный сберегательный фонд»  даже во время реального ухудшения своего материального положения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ВЕР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веренность людей в том, что их не подведет конкретный объект доверия в той или иной ситу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е возможно, если человек испытывает внутреннее расположение к объекту доверия и убежден в том, что соответствующее лицо, группа населения, организация, механизм и т.п. будет действовать в рамках его позитивных ожид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ми факторами, определяющими  уровень доверия являю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симпатии к объекту довер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уверенности в надежности выполнения объектом доверия своих функций или каких-то других позитивно ожидаемых действ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верие к банковским учреждения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того, насколько тот или иной банк демонстрирует финансовую устойчивость  и уважительное отношение к своим клиентам и партнер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конструкты банковской финансовой устойчив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редитно-сберегательной структуры своевременно и в полном объеме выполнить свои обязательств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финансового института досрочно вернуть сбережения тем или иным вкладчикам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банка придерживаться своих первоначальных обязательств перед клиентам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компоненты уважительного отношения к банковским клиент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ность в общении с клиентам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сть выполнения банковскими специалистами своих функциональных обязанностей по предоставлению финансовых услуг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обслуживания клиентов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информации о деятельности банка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ексы показателей доверия ряда украинских бан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857160"/>
          <a:ext cx="8229600" cy="5786640"/>
        </p:xfrm>
        <a:graphic>
          <a:graphicData uri="http://schemas.openxmlformats.org/drawingml/2006/table">
            <a:tbl>
              <a:tblPr/>
              <a:tblGrid>
                <a:gridCol w="1971720"/>
                <a:gridCol w="642960"/>
                <a:gridCol w="642960"/>
                <a:gridCol w="642960"/>
                <a:gridCol w="642960"/>
                <a:gridCol w="642960"/>
                <a:gridCol w="642960"/>
                <a:gridCol w="642600"/>
                <a:gridCol w="642960"/>
                <a:gridCol w="571680"/>
                <a:gridCol w="542880"/>
              </a:tblGrid>
              <a:tr h="2080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и доверительного отно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ексы банков, на базе оценок населения Укра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П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в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ф-файз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о-в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 и 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Г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и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 gridSpan="11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 оценки финансовой устойчивости украинских бан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ность   банка своевременно и в полном объеме выполнить свои обязатель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ность банка  досрочно вернуть сбережения вкладчик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ность банка придерживаться своих первоначальных обязатель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gridSpan="11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 оценки уважительного отношения к клиен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тичность в общении персонала с клиен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ильность выполнения банковскими специалистами своих функциональных обязанностей  по предоставлению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ость обслуживания кл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тупность информации о деятельности ба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чественный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рганизации и осуществления результативной коммуникационной политики необходи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ая концепция (проект) информационного воздейств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й информационный материа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ая реализация коммуникационной страте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РЕГАТЕЛЬНОЕ ПОВЕД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й деятельности, который предполагает направленные действия по сохранению фиксированной суммы денег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РЕГАТЕЛЬНОЕ 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ЕД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берегательным операциям можно отне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ие вкла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ожение средств в ценные бумаг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ожение средств в недвижим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ожение средств в драгоцен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ожение средств в предметы искусства и антиквариа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ние наличных дене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ПОЗИТНОЕ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ОВЕД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й деятельности, предполагающий размещение денежных средств на банковских счетах под определенный проц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ПОЗИТНОЕ</a:t>
            </a:r>
            <a:r>
              <a:rPr b="1" lang="uk-UA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ОВЕ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зитное поведение может бы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ерегательного характ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ительного характ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ого характе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ИВЫ ДЕПОЗИТНОГО ПО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чинно-побудительные факторы сберегательного характ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ерациональные  мотив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определенной суммы, которую трудно сохранить нетронутой в другом месте;  наличие определенной суммы, которая из-за инфляции может обесценить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итуциональные мотив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ому, что в моем окружении принято хранить деньги в банке на депозит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тивы эмоциональной направлен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определенной суммы, которую страшно хранить до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ИВЫ ДЕПОЗИТНОГО ПО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побудительные факторы накопительного характе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накопить средства для приобретения какого-то предм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побудительные факторы инвестиционного характе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заработать на хороших процент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ивы депозитного поведения населения Украины и вкладчиков проблемного ба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0040" y="1143000"/>
          <a:ext cx="8229600" cy="5180040"/>
        </p:xfrm>
        <a:graphic>
          <a:graphicData uri="http://schemas.openxmlformats.org/drawingml/2006/table">
            <a:tbl>
              <a:tblPr/>
              <a:tblGrid>
                <a:gridCol w="2471760"/>
                <a:gridCol w="1000080"/>
                <a:gridCol w="928800"/>
                <a:gridCol w="928800"/>
                <a:gridCol w="1000080"/>
                <a:gridCol w="928440"/>
                <a:gridCol w="971640"/>
              </a:tblGrid>
              <a:tr h="27936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Что может повлиять или уже повлияло на Ваше решение хранить свои деньги на депозитном счете в банке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прошенное население в апреле- мае . 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учайно опрошенное население Украи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кладчики проблемного бан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почит. хранить деньги на банк. вкла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почит. хранить деньги в нал. фор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почит. хранить деньги в виде недвижи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почит. хранить деньги на банк. вкла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почит. хранить деньги в нал. фор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почит. хранить деньги в виде недвижим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определенной суммы, которую страшно хранить до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0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суммы, которую трудно сохранить нетронутой в другом мес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определенной суммы, которая из-за инфляции может обесценить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сть накопить средства для приобретения какого-то предм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5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сть дополнительно заработать на хороших процентах по депозит. вкла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ому, что в моем окружении принято хранить деньги в банке на депози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йчас ничто не может повлиять на то, чтобы я сберегал свои деньги в бан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труднились ответи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ы депозитного поведения вкладчиков постпроблемного ба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214280"/>
          <a:ext cx="8229600" cy="5367600"/>
        </p:xfrm>
        <a:graphic>
          <a:graphicData uri="http://schemas.openxmlformats.org/drawingml/2006/table">
            <a:tbl>
              <a:tblPr/>
              <a:tblGrid>
                <a:gridCol w="1971720"/>
                <a:gridCol w="1071360"/>
                <a:gridCol w="1428840"/>
                <a:gridCol w="1571760"/>
                <a:gridCol w="1428840"/>
                <a:gridCol w="757080"/>
              </a:tblGrid>
              <a:tr h="5151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Что может повлиять или уже повлияло на Ваше решение хранить свои деньги на депозитном счете в банке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772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прошенные вкладчики проблемного банка после того, как данное финансовое учреждение начало выполнять все свои обязательства в полном объеме (август .) (%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ые вкладч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кладчики, которые перезаключили депозитный догов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кладчики, которые отказались перезаключать депозитный догов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кладчики, которые досрочно расторгнули депозитный догов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 вкладч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определенной суммы, которую страшно хранить дома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,6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1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,4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определенной суммы, которую трудно сохранить нетронутой в другом мест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9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1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4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суммы, которая из-за инфляции может обесцениться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7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,8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сть накопить средства для приобретения какого-то предм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7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,5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сть дополнительно заработать на хороших процентах по депозитному вклад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,8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,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,3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,3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ому, что в моем окружении принято хранить деньги в банке на депозит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9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1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йчас ничто не может повлиять на то, чтобы я сберегал свои деньги в бан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труднились ответи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3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2:45:41Z</dcterms:created>
  <dc:creator>User</dc:creator>
  <dc:description/>
  <dc:language>en-US</dc:language>
  <cp:lastModifiedBy>User</cp:lastModifiedBy>
  <dcterms:modified xsi:type="dcterms:W3CDTF">2010-03-24T15:25:58Z</dcterms:modified>
  <cp:revision>20</cp:revision>
  <dc:subject/>
  <dc:title>Особенности сберегательного и депозитного поведения и вопросы восстановления доверия к банкам Украины </dc:title>
</cp:coreProperties>
</file>